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570B-E04D-4EE0-B7F4-A2EFF01486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994F-7A76-4AA9-BD63-907FBC2C0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8162-9782-4AF6-B80A-BA8C3AF29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7867-31DE-4B02-9C26-A8F1C32F5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02EE-0AAD-419E-BD33-C090DD5C7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7C73-6EA0-4A8A-BAD7-F8AB0EE20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1E8E-2FC3-4BEB-974A-02C2BFB9E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B773-56CE-4EB9-9687-0B6AC177C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791-836C-4019-972F-BC16986C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BA1-CAEC-4592-9BD0-27B4EA1F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36B48-6309-4F92-916A-23A42B24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479E7-7C51-421E-8319-6591A834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541DA-A0D0-4F18-82E8-B928260C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01660-EDB4-4F1F-813D-33E7D2C2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B997D-8ACA-4220-8DDA-0274EC50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9FA33-B264-4A21-A158-3514E622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D2A9A-3518-4FC5-81F2-DCD9DE79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151CF-78FE-4FBF-A19A-ADD7B412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9D31B-A83D-4734-8775-35AE9C99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6A982-83C6-493E-9A4D-20F73BE6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F9B-7CCF-42EA-999D-4DD15B62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4ECC0-FFC2-4257-BB93-3E5217D9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962E8-C02F-46ED-B8CD-05B122C0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6D4ED-3A37-46CB-B647-8BDD57FB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F9391-8DA2-49ED-BD93-851F6BCF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45F23-C531-4364-8CB5-2FA01EE5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78F78-370B-4ADB-B611-0AC82D54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9DF28-DBC9-4514-A29F-1AF7D1C3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C47DD-D7FA-49E1-BEF7-5CF52805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36F5C-495E-4B20-972A-172EDB36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770FA-CDCF-479E-AEC9-4CBCD5DE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213-4867-4E00-A5ED-3DCE96EA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3FE0A-0F61-44EB-838C-1E0A2B92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08926-DCA6-4CCA-9D7B-90B2C2E8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6151A-E569-4597-8D16-193B3DAC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62650-36AE-462C-97E1-B83D130E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91A5A-E36A-466E-964E-131D0A17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30BE6-67D6-46CE-860B-9B4A21A9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7F0A9-F6C6-4220-9759-15A46C28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CC2DC-2298-4FD0-9D0C-1072A3DD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21687-5490-45F0-8C82-F5118C8E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4BBFD-01CE-40AC-9D7E-0396B4B1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2420-F59B-48C0-9633-B7575F75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9D475-10B0-42A2-BE54-845F8392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CEB7E-A887-4752-8189-D5B439D4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4ECFF-0E48-413A-8858-AC4CD7D2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86481-0688-4E26-9CE9-836AFCDE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24540-BA58-45BE-A62A-3D0A5F61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27590-77D1-4AE0-9125-39671A01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79007-1E2D-4ACE-AE4B-AEC6DC84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68803-C222-4C22-9E6F-612FBAD4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9DFC1-7A0B-4A45-921A-8F62F15E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C1FD5-5BE8-44C8-9F72-66656A64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3C42-5343-4BA3-BBAD-A89C997B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5A73B-D70C-429A-9099-112DE695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B2238-F52C-4127-A3B8-AF9F780F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82D60-AC4A-4C86-9090-C077AE16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D5754-CB6E-426D-976D-68D07B92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8DC41-673F-4353-A39D-2D28FEB4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EF7D-6C82-440B-9007-2484E8DD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50E5-4EE5-4FB3-A9F6-B90D9614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16B5-7A16-4F7C-9706-8EE8A355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D925-0E8A-4617-A83D-B9FA2672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9E3E-00A1-46DE-93FF-3C923B60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66F-135A-4ABC-A60D-71CB32D0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69A3-634C-4EE2-8344-14CEA61A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962F-2F5F-4471-994C-FC15FDE0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C2B5-FC2E-4744-85DC-DB2C8E10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3BE3-0CD3-4DD0-AB9C-208CF277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FCA1-9CD2-4FA5-846D-F91C4B42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620F6-E39C-4784-B0BD-8048C17B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9CE87-8D22-49DD-98F9-636EF6CE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A7356-02A3-4981-B1EA-6A515EFC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E4F95-8D09-4311-8F43-D0506BF8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EA8DD-4611-433B-B3DC-7A42D896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E70-C4C1-4E23-AE7C-0E5E5650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EADC2-01E0-4547-8713-407E6F16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4004-C2A6-4C48-B13D-332ACF99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0081A-1A82-4137-B398-6632233F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13376-6BA6-4C14-89FD-CC293F97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5168B-93D8-4BBB-965A-06F5384B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7D3A8-D0D4-4086-98FA-D13FBE3F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AE912-C6A9-4C8D-A08B-D7FE89FA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39849-2F26-4C49-87B2-8D2F6B0B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B34E2-CFD1-4A35-92F6-BE61E06A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CEFE8-5340-4C40-8380-74E9E6DD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EB5-BDCF-439C-A61E-CD9AAC8E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DA706-EC77-4319-AF63-5973C06E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66BD0-5A45-46AB-BC46-BD1239C1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84C0F-2102-4F99-846F-304F1ADC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CFD78-ACA2-4C1B-A8F0-6CCA842F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BB285-81B7-4996-9BBB-95223E54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2CC7C-3BEE-4DD5-A0D5-CDBE937E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20F68-AEB7-48FD-B1C4-4ECEC859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BD283-5041-4FAA-A7D6-A2BA2E4E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DF480-92CF-404A-826C-0EA7BEF6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59DA7-4C32-4C80-86EB-D9291A23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0C0-12C7-4A31-A56E-676C5715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6F901-0703-4CB4-9B0D-55621BB5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AEABA-1A17-4B69-83CC-66641883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4C028-2B28-447D-83A4-D313684D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F79E4-F960-4A65-967E-B943874A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1A7A1-EBBC-4008-B8A4-90D2B3E4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3BC03-51CF-478C-BF46-1E1D08E6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BCB22-5F60-4653-99B9-68D064E3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7360C-8A50-45D8-B18C-9926180F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E786C-33E0-4854-96FB-3B3C9169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A5746-AC76-4D0E-8512-6FF999CE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B1D0-B02F-4421-B7AA-BBB73787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75A9A-005B-4E12-8E05-DF826DB8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E76510-5D5A-4800-8725-7B9DCDF7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B36BE-0F29-4843-960E-50BF258C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9FA75B-3118-4E53-B37B-023EE644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FE695-2C82-4F99-9D23-40DEB035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BA14F5-A517-4355-954E-B16B0CAE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EE4FCF-A16C-4EDC-8755-F16406A0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25830E-5935-4C35-A701-FC5E1007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15461-C4AE-4AB1-B010-BB6F7403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5A7003-3523-46CE-9D58-6A678752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CA1-638E-498E-A2B6-656CF811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75363-071D-4D34-BA07-E0262E03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2E26CD-237C-448C-9FD8-BEC81E98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28E4CF-5E6E-4B60-B77E-900B3D03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BF611-29DC-48C6-81D1-87A6B91B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327AC-A68A-402C-82F8-C07C3B08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85A4C-A6A7-46A3-8FE0-52312DC3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98AFD-4305-47BC-96E2-C8557A31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B2F19-B73D-45E7-A200-F22EC8C5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5E948-C4D8-4EA9-B32C-2313BFA0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A132C-3235-4977-9449-A60FAFC0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CC3-323A-48D0-91BA-85FC4A21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85D6C-6080-4C39-B50F-9EE1B035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04DAA-7687-49B8-8577-07336209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6594F-C970-4416-BEF4-31051FC6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B3A8A-CE96-48EE-8FAD-A9FC4F7D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AFBB9-E71E-4B59-8BF4-AC1257D0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AACAE-3E26-400E-8B09-EF28FF85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B95E7-9913-4DF5-87FD-17B5AC94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67A94-73D5-4DAF-B29F-9D554C02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B0131-755F-4F01-A986-C959B926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4D291-FF8B-42BE-8154-716B09FE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D3C-118B-4992-BDF7-FE19CDDB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2E371-D798-43B4-B9A7-C8FC4E35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A58C2-5887-4D81-9449-E969F8FB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C8EBF-4B47-4E58-8352-7E6EF7C8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DCA3C-15DF-4451-9DA3-C6A58BF0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FFA01-2A25-4708-A8BB-93B1BE1E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742AC-1B2A-4F1E-BC48-0ED1F6C1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0E200-B234-473F-8CC7-5F1AFF26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C4339-126D-4A70-8993-D7A281FB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B2B28-AA6A-42E6-A17F-F69D3DA3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5FCD0-3BB8-407E-B567-57E506D7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BD51-EFF8-4E5E-B4E7-0A1D9C526260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8816-1384-4541-B2C1-CC6D4E925D5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44DA-3B41-4021-9CAD-E33D94A4C645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4D78-4929-46EC-9D53-5F53046CAF8F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39AB-B61B-43FC-A956-5C71225D4B7B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4A15-F9C7-4866-B7F9-5BF94382D61A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EBDE-B65E-4491-8738-0E33393BF285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5AF5-54E7-41A2-9728-C00A1E2F01EF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606A-75D0-48D8-903F-69B6924F62C7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A0B4-1896-4AE1-BB33-4139D8D1AE6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05A4-AE89-4719-9FB7-0DA735D3A999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87BD-5B18-4A7E-8C08-E55DDDB6F73A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9294-5E34-4641-855D-676635B24EA6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C351-EEF9-4CD8-97BD-564B36BE60B1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9826-A782-4D4D-B020-C96752FBDE78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831A-4DD2-4252-8DE1-6D522BA5050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0DFC-D7E4-4C78-AC4D-5BCD29362911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A838-B238-4B9C-9EF1-166D258160A9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7487-C518-46A4-8A86-090E3B16ADF5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17BF-F4B4-4C53-8AB9-C89A11700389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4D3B-F230-41C5-B63E-61E969ABF30A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F019-E732-49E6-9D85-32A2580D2863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5DB9-8011-4D6C-B0A9-D9122ED143B3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DD61-315F-4AC4-BA4C-C08AB97172B0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harvard.edu/" TargetMode="External"/><Relationship Id="rId2" Type="http://schemas.openxmlformats.org/officeDocument/2006/relationships/hyperlink" Target="http://en.wikipedia.org/wiki/Wikipedia:Contact_us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Evaluating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 Web Source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6840" y="4067280"/>
            <a:ext cx="3233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Presenting b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Amal Alham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Ayra Almeid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Zarina Sushin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1174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Examples of online sources:</a:t>
            </a:r>
            <a:endParaRPr b="0" lang="en-US" sz="3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981080"/>
            <a:ext cx="82296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1"/>
              </a:rPr>
              <a:t>http://www.harvard.ed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Questionab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2"/>
              </a:rPr>
              <a:t>http://en.wikipedia.org/wiki/Wikipedia:Contact_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http://www.beastobama.com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TextBox 3"/>
          <p:cNvSpPr/>
          <p:nvPr/>
        </p:nvSpPr>
        <p:spPr>
          <a:xfrm>
            <a:off x="-1506600" y="3573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Conclusion</a:t>
            </a:r>
            <a:endParaRPr b="0" lang="en-US" sz="3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2209320"/>
            <a:ext cx="8229600" cy="31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Even though the World Wide Web gives a lot information for research papers it can be easily copied with omissions and errors. If you want to do online research you need to have a critical thinking in choosing the right sourc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Reference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http://www.lib.berkeley.edu/TeachingLib/Guides/Internet/Evaluate.ht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http://lib.nmsu.edu/instruction/evalcrit.ht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http://people.wcsu.edu/reitzj/res/evalweb.ht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http://www.library.ucla.edu/libraries/college/11605_12337.cf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http://www.lesley.edu/library/guides/research/evaluating_web.ht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Online Research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Advantages   vs.   Disadvantage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686880" y="3014640"/>
            <a:ext cx="260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Conven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Var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6"/>
          <p:cNvSpPr/>
          <p:nvPr/>
        </p:nvSpPr>
        <p:spPr>
          <a:xfrm>
            <a:off x="5236200" y="3014640"/>
            <a:ext cx="260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Not 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Trans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438086"/>
                </a:solidFill>
                <a:latin typeface="Arial"/>
              </a:rPr>
              <a:t>Cos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traight Connector 5"/>
          <p:cNvSpPr/>
          <p:nvPr/>
        </p:nvSpPr>
        <p:spPr>
          <a:xfrm flipH="1">
            <a:off x="4635000" y="2846520"/>
            <a:ext cx="1800" cy="279072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Criteria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for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Evaluating Web Resources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2209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  <a:ea typeface="Arial"/>
              </a:rPr>
              <a:t>Authorit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  <a:ea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  <a:ea typeface="Arial"/>
              </a:rPr>
              <a:t>Objectivity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  <a:ea typeface="Arial"/>
              </a:rPr>
              <a:t>Currenc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  <a:ea typeface="Arial"/>
              </a:rPr>
              <a:t>Coverag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086"/>
                </a:solidFill>
                <a:latin typeface="Arial"/>
                <a:ea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28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Authority</a:t>
            </a:r>
            <a:endParaRPr b="0" lang="en-US" sz="3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795320"/>
            <a:ext cx="8229600" cy="47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7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re an author or sponsoring organizati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 page signed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Are they have a good reputation? Are they well-known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re an information about the author or a sponsor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re a phone number or an address to contact for more informati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7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 website’s domain official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4da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.com - Commercial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.edu -  Education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.org - Organization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.gov/.mil - Governmen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.net - Internet Service provider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a04da3"/>
                </a:solidFill>
                <a:latin typeface="Arial"/>
                <a:ea typeface="Arial"/>
              </a:rPr>
              <a:t>/~ or % - personal nam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Accuracy</a:t>
            </a:r>
            <a:endParaRPr b="0" lang="en-US" sz="3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re an editor or someone who can verify the information present in the websit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Does the information disagree with the information already gathered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 information reliable and error-fre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Objectivity</a:t>
            </a:r>
            <a:endParaRPr b="0" lang="en-US" sz="3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re any advertising on the pag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What is the purpose of the websit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Does the content show bias? Is the bias explicit or hidde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Currency</a:t>
            </a:r>
            <a:endParaRPr b="0" lang="en-US" sz="3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 page dated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f so, when was the last updat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How current are the links? Have some expired or moved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Coverage</a:t>
            </a:r>
            <a:endParaRPr b="0" lang="en-US" sz="3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What topics are covered by the websit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Are the topics discussed in-depth or just summarized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How does the website compare in content to similar websites?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re an indication that the page has been completed, and is not still under construction?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4456"/>
                </a:solidFill>
                <a:latin typeface="Trebuchet MS"/>
              </a:rPr>
              <a:t>Design</a:t>
            </a:r>
            <a:endParaRPr b="0" lang="en-US" sz="3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 content well-organized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Is the overall design easy to comprehend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Does the site contain pop-up windows that distracts user’s attenti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Arial"/>
                <a:ea typeface="Arial"/>
              </a:rPr>
              <a:t>Does advertising pack and hide the main content?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8:38:54Z</dcterms:created>
  <dc:creator>Ayra Almeida</dc:creator>
  <dc:description/>
  <cp:keywords/>
  <dc:language>en-US</dc:language>
  <cp:lastModifiedBy>Ayra Almeida</cp:lastModifiedBy>
  <dcterms:modified xsi:type="dcterms:W3CDTF">2011-07-25T20:06:45Z</dcterms:modified>
  <cp:revision>67</cp:revision>
  <dc:subject/>
  <dc:title>Slide 1</dc:title>
</cp:coreProperties>
</file>